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B90-7469-44F5-9C8C-06B3FCE9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DDB-F29A-4C2A-8EE0-F12CD52A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8D582-6EEE-464E-9C7C-1BC9E3BB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12EB6-E079-427F-A301-DD856931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CB00E-846A-454C-8071-437CA0C1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299D2-6B0E-494C-BED2-9AF6E639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20C91-4120-497D-806A-930DE196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62877-92EB-4975-8F8B-A128E893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235E0-DC66-4BBB-AB46-9FF395DE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08B9E2-4156-48C7-A1A6-4EDB8150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1D4A1-DF96-4486-B03F-79F1C027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5E4CD-0B71-413C-AD2E-5C2F96BF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91C-1322-4B7D-B3DC-4C6CEB70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3A307-A1F4-4EF5-9FEA-2CE29F22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48351-69DB-45C7-83CB-67FC37D1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F7CB9-48DF-41DB-BF46-20BB3013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931C3-1530-47C7-B33C-ABE3F21F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AC049-7169-4ADE-8861-4F35BFDF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A727C-6681-402E-9BCD-CAD350A2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D5325-4165-430B-B8BA-B797C421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8D6CD-88FA-447D-9825-412CEDB7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9B0E4-16E6-4333-9104-DF0D176B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FBE8D-A121-4D52-9955-D288FE76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990-74B0-4A24-8294-9CC7EA57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2C5EC-5B10-4FF6-8EC6-5BC8949C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69EF4-9934-4C5E-84D3-66FF1DC4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ABDE8-1D52-486A-9F7B-4DCDAA28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BBBB8-7CEF-4C9C-9DD1-A086A9C2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B36A5-9935-4FF8-9F00-17983894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DB06F-186C-408C-94E4-D280EA3F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B4C5B-3267-4297-9E22-47020C0E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05A18-5A27-4BD3-9AD8-09764A2F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ED159-26A2-4A45-878B-BA392766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E30D9-5165-4295-8C03-65AAB26F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BA76-4676-4446-91FF-BBA3E8B4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FB9D7-AD03-4A02-ACD9-AEA7DDB3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E563E-37D8-4D84-92D0-F8CECD70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6E94B-9644-4EF4-9580-FC335201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4DB49-92F1-4DED-9562-411E9EAD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E09CC-61D5-44B7-8BFD-BACC1098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C6D4A-7E7A-46E9-9E8E-7EC88DA1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53D1E-3EDB-4985-8708-8713F161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0756C-3FC1-48AC-AC9D-9B8B5576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586B1-A6C3-432B-B443-963E314D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35DAC-D038-4B06-A651-918BBD4A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FE46-3033-462C-B680-96A30324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000BC-EE56-47F2-AF0B-D7F1D723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E1DB7-8F5F-4644-AEBB-3B017278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451E1-F231-49C8-9989-6D1BBC6F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46931-D3D2-47DF-B9CB-A9D5439A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EE6C1-9F00-48BC-8F5A-2FAFAF9E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406A-FCC8-4F7B-985E-E38F6FF6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6FF1-F480-4230-9C9A-1E5B02C1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F1BF-5147-44E3-93B5-6D7D9DD7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AF1D-EED7-4742-BBE7-1A9140DA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8EDD-DB12-40A9-8DA8-1AFFD407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1B4E-1D70-45AD-986B-70B46DEB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5930-B4B2-47B3-AC68-BA184FAC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EA46-4961-4ADE-B626-3C90B593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6647-1D46-4731-8631-83ECA626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0311-602D-4B54-B2A7-EEB40D44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1D4A-BB03-4B03-AAA0-B000D2D0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183A9-7E6B-4187-8C02-7E1DC511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505E3-8F93-41CC-9795-AD9944A5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720BE-0AAC-46CB-BD23-99781BA3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EC3C3-D760-4F9C-B4BC-D8AE645E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5EAF-72C3-469B-A3FB-9ED5BE24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87E-5DAD-44D2-B52D-F6D3C93C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E2431-C5F8-413D-93B1-2D49A0BA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BA63C-E67D-441A-9A68-1072E780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ABC2E-8D04-421F-AD05-0EFDECDE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F81C7-54C5-4683-B69D-FD0582A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E595A-0C80-4891-836E-3084D202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4E23D-4824-4A07-AFE8-51F7076B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43EA-4B22-4328-9F1D-8DA0650C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E8EE3-1238-45AB-8EA7-2CD4BC55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BA78F-7E8F-4652-A434-9519A84A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A9F21-6CC5-4EA9-8AF8-EC3743D1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EAB-A022-4C64-8B9D-A0AE8FDC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4B05B-73E3-4440-BA8B-729A4077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9FD20-CF5F-497C-9F75-C09FDCB0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5C9A5-903F-40FD-AB26-727E92FA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FDE95-9E8E-4F60-8536-ABDAB44A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D8B7A-AC37-419B-AB2A-B5E8F6A0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15FA7-1C21-411D-A8F1-1FFB9783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58CC9-95FF-4410-B038-5F33F852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0DE98-7C59-4624-82E0-CB89C2C0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6686D-3E5F-4A92-BC71-266D5853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F1932-6DE7-409C-BF3D-4BC7EF21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38E-62EE-4F2A-83A3-3490767C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807C4-919E-482A-85F5-320FE228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103B4-1F1A-432D-BF43-689ABBF6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53A22-7399-4C1D-A859-8FD1E5BE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806F4-2847-46A7-A7D3-FBAD6497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9432A-7C0E-4167-8FD9-9F709D4D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DAFFE-3B20-49D2-A7FB-9A0F2088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B4A51-6EEF-4177-AA68-886DC5FE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F9B89-C620-4801-AD14-7D8138C1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977C6-2776-4DF5-BE05-EC653A37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18865-4408-4062-8DC4-49A96F58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243-15F2-4A7A-AF2A-77EFFD39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7323E-71F0-4780-9E38-31B64F66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6C411-56C6-42D6-88C3-AC9D8CBE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09F06-FBDB-43CE-9B06-8739F1A7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1CF85-8F0E-44B9-9957-59C5201A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1F0CC-8165-444C-AE85-1D188851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CA882-EF0F-4D75-BD83-7B9D0B16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5AAAF-DBB5-4AA1-B60A-BE2044CA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0BC75-54ED-4D2F-824F-CC25F294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208EE-8D7F-4CB6-9561-9CE429A3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828FF-29AB-474E-8E10-364C30FF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2021-D4BF-4CB9-BF66-202855F8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3ADBC-7051-45A2-8C9F-ED6DDF91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6A1CB-133B-4E0D-974A-1AD2459F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140A3-0D0F-4EE5-B597-7D48BC06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FAFF5-89C7-4487-A39F-E389FFA4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04C19-52BD-4120-ACDE-A1C3FB22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E8A3E-69F1-4D2E-A369-CAE3F7AD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253C1-59DA-458D-8DFD-CC2A2BD3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B756B-DD27-4825-A005-0D46BEB6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2962C-A526-4E72-9326-08EFBCA9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0D39C-CFB4-41BB-AD18-79D213F1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F6E-EC53-4AC9-9F99-30744111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6E25F-B5D8-4ABF-8A4F-2752EB46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AD752-18D6-4FFE-9F5E-15E17898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1A009-0C91-463B-BABD-3A922C79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98013-E7B2-4B62-976C-800E75E1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703CF-9F9E-4B97-B8E0-257DA9FF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24C2C-5F2F-4245-87FE-4E981E20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8D0F2-247A-4F98-A55C-FDC996BF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CA236-E688-4069-A04C-A27ABD2D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F7EBF-ABC1-46A0-9B51-AB592F99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2BBA0-668C-46CC-B96C-69A1F262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0B8-98A3-4499-8F1C-3A8CF392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63A4A-95E7-4567-9872-6BDC34D4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41034-B955-44B7-A98C-095E001F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B05A9-DBFB-49FA-8540-80525749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402C0-4177-412E-B852-9F3A44D4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924DC-F391-4109-8870-02D91BC0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2BC28-15B6-4C2B-AE15-587A387D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0357D-3DEE-4770-84A2-E1761986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4F2A7-70FF-4E04-8541-17B013B9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AB48E-EDA8-4CB5-B568-287807D7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1A0AD-60FD-4743-9934-F5433D4F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D21C-E056-4F6B-AF20-61D0315BDE4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FEA1-7797-45E8-9440-3CE22EF6AD3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3E31-2679-4112-A6F3-2A2543C1175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C289-1260-45C1-A194-1B28DD217CF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A9B4-D961-4227-921A-55C853C13FF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CFDB-18BA-42B5-9A69-2D5162DFF64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1EA3-82C4-410A-AA9F-5DE8954A35A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E77B-B917-45FC-B0E8-09BF2F04462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E511-6A5B-44F9-8B0B-8944719FBC0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4390-ED96-4307-8763-DACA725B3E8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FB63-6D84-4157-A95E-232E2A90BA36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C1E9-F038-4FDE-B567-FC01A1E4580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EYOND BREAKING NEW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hapter 6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vice and Sugg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lpful tips for successful feature writ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syntax and phras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voice and tens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detail and descrip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other dramatic techniqu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andard Story Structur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traditional text to convey informatio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inverted pyramid is rarely used in feature stories. While it's an efficient way to organize facts in a news story, it is NOT an engaging way to organize ideas in a featu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hort-Form Story Struc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colorful, creative layouts that are easy to produce and appeal to readers' short attention spa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ggestions for using a more visual approac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riting Profi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files are more than a who-what-when-where-why rehash of fact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profile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veals feeling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xposes attitud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ptures habits and mannerism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ntertain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forms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searching and Writing Profi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licit your subject's suppor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rview and observ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nd your focu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up with further interviews and research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ucture your stor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vice and Sugg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ps on working with photographer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ys to paint a better portrait: capturing details, re-creating scenes, and adding quotes and dialogu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hecklist of questions to ask yourself when reporting and writing profil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nterprise Projec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ecial stories that allow reporters to reach beyond the routin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st provide in-depth examination of people and issu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are creative, ambitious and uniqu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often become special sections or multi-part seri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vice and Sugg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do I find time for enterprise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pert advice on reporting and writing enterprise stori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vestigative Repor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a free society, some journalists do more than just explain—they expos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Three Basic Elements of Investigative Reporting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at the investigation be the work of the reporter, not a report of an investigation made by someone els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at the subject involves something of reasonable importan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at others are attempting to hide these matters from the publi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World of Featur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sonalizing the news with stories that educate and entertain. Feature stories often focus on issues that are less timely and more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persona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 trends, relationships, entertainm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include topics, treatments, styles and structures you won't find in standard news stori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rd news vs. soft news: What do these terms mea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vice and Sugg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gging up dirt: Advice for investigative report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ackage Plan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teamwork and working with the editor, photographer and designer to turn stories into appealing packag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hort-Form Alternativ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lternatives to narrative text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densing data for readers with short attention span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hort-form formats: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ast-fact box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bio box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hecklist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list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quiz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tep-by-step guide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actual index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diagram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imeline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quote collecti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riting Editorials and Colum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editorials, columns and reviews, the writer's opinions aren't just allowed, they're encouraged. They're essentia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The Knight Scroll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uld include an editorial in each issue tied to a front page news stor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vice and Sugg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ditorials: where publications take a st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lumns: where the options are endles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ing commentary: Advice for columnis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riting Review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ers need your expert guidance to find the best performances and product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stinction between "critic" and "reviewer."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vice and Sugg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graphic extras that make reviews more reader-friendl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to write criticism that gets good review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mon Categor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ifestyle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alth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cience and technolog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tertainmen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o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mes and garde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pular Types of Feature Stor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sonality profil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uman-interest stor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lor stor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ckground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end stor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ction pie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lashback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-to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sumer guid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sonal narrativ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enerating Story Idea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great stories everywhere, just waiting to be discovered. The four best angles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to save time...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to save money...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to be loved...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to make money.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Where to Find Those Great (But Elusive) Story Ideas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tart compiling a list: Look for ideas everywhere; then jot them down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rganize your ideas by topic (people, places, trends) or by treatment (profiles, photo stories, how-to guides)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 best places to look for ideas: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your publication's archives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your competitors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V, magazines, newspapers, Web sites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news releases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reader suggestions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brainstorming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64600" indent="-26460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to Tell if Your Idea is a Good O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ight ways to assess a story idea before you try selling it to an edito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e page 118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Got a Good Idea? Here’s How to Turn it Into a Story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e if it's been don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cus your angl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alk to your editor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your research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lan the packag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e the stor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eature Sty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me stories require a livelier, looser, more literary voi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"The New Journalism" pioneered by Tom Wolfe, Hunter S. Thompson and Gay Talese in the 1960s. Reporters began borrowing literary techniques from novelist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In Cold Blood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y Truman Capote – Nonfiction no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oday, feature writers still rely on literary techniques you won't find in standard news stori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9T21:27:26Z</dcterms:created>
  <dc:creator>Administrator</dc:creator>
  <dc:description/>
  <dc:language>en-US</dc:language>
  <cp:lastModifiedBy>Administrator</cp:lastModifiedBy>
  <dcterms:modified xsi:type="dcterms:W3CDTF">2013-07-21T21:10:23Z</dcterms:modified>
  <cp:revision>19</cp:revision>
  <dc:subject/>
  <dc:title>Chapter 6</dc:title>
</cp:coreProperties>
</file>